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01B0-AC44-4EA0-AB32-CF7E9DE8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6A4C-6D72-410E-8139-378FA34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87A6-6A13-44E3-9270-CE0AA2DB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5492-4115-4B53-A411-C68F6ADB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F39-F1A9-42FF-8E37-44690E32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D4E5-36C9-4119-AE55-9EB731B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3B2-751F-4534-A7C4-1F365422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453-EB6E-4185-9F56-C3D72536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22B5-11E7-434B-A6C6-88AE3582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6077-51C0-410B-96FE-57D863D5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AC6B-0CD7-4859-93AE-7BC8180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A1AA-BA2E-4EB3-BFCD-F139AD5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2C3-5980-4FFC-B4D0-AE6E87A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4F0-C1AF-4822-B8BB-DFD37D9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FFD9-9999-4A09-A09A-201F1E5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E18-FAEB-452F-A32A-F19BA95C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8E68-D68F-4611-BAEF-00C99B8C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4067-2B5A-4B50-BFC3-0470DF8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884A-22C1-4D85-8F16-A3AA69C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F9F0-7D8C-4981-BE00-738B0A21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BF44-F0EA-4005-87D0-00E34B0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A576-552C-4736-9440-CFBD688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BBCD-D168-49A6-B084-16B85820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A911-6165-424C-ADD3-DCA4B4C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3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3FF-7BC3-4B40-A35F-62DF66B033BA}" type="slidenum">
              <a:rPr b="0" lang="en-US" sz="14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3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748-C7B9-4A25-831A-464FF071E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irth-control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Norplant Implan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34" name="Picture 5" descr="&#13;norplant copy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Emergency contraception pills can reduce the chance of a pregnancy </a:t>
            </a:r>
            <a:r>
              <a:rPr b="1" lang="en-US" sz="4400" spc="-1" strike="noStrike" u="sng">
                <a:solidFill>
                  <a:srgbClr val="fafd00"/>
                </a:solidFill>
                <a:uFillTx/>
                <a:latin typeface="Lucida Sans"/>
              </a:rPr>
              <a:t>by 75%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 if taken </a:t>
            </a:r>
            <a:r>
              <a:rPr b="1" lang="en-US" sz="4400" spc="-1" strike="noStrike" u="sng">
                <a:solidFill>
                  <a:srgbClr val="fafd00"/>
                </a:solidFill>
                <a:uFillTx/>
                <a:latin typeface="Lucida Sans"/>
              </a:rPr>
              <a:t>within 72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 hours of unprotected sex!</a:t>
            </a:r>
            <a:br>
              <a:rPr sz="5000"/>
            </a:b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49440" y="838080"/>
            <a:ext cx="841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afd00"/>
                </a:solidFill>
                <a:uFillTx/>
                <a:latin typeface="Lucida Sans"/>
              </a:rPr>
              <a:t>Emergency Contraception</a:t>
            </a:r>
            <a:endParaRPr b="0" lang="en-US" sz="50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Lucida Sans"/>
              </a:rPr>
              <a:t>Emergency Contraception (ECP)</a:t>
            </a:r>
            <a:endParaRPr b="1" lang="en-US" sz="40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Must be taken within 72 hours of the act of unprotected intercourse or failure of contraception method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75 – 84% effective in reducing pregnancy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California pharmacies can prescribe without a doctor! (1/1/02)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BARRIER METHOD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permicid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ale Condom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male Condom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BARRIER METHOD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revents pregnancy blocks the egg and sperm from meeting 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Barrier methods have higher failure rates than hormonal methods due to design and human error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SPERMICIDE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Chemicals kill  sperm in the vagina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Different forms: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-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Jelly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Film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Foam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-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uppositor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ome work instantly, others require pre-inser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31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ost common and effective barrier method when used properl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Latex and Polyurethane should only be used in the prevention of pregnancy and spread of STI’s (including HIV)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FE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ade as an alternative to male condom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olyurethan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hysically inserted in the vagina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Lucida Sans"/>
              </a:rPr>
              <a:t>Reality </a:t>
            </a:r>
            <a:r>
              <a:rPr b="1" i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</a:t>
            </a:r>
            <a:r>
              <a:rPr b="1" i="1" lang="en-US" sz="4400" spc="-1" strike="noStrike">
                <a:solidFill>
                  <a:srgbClr val="fafd00"/>
                </a:solidFill>
                <a:latin typeface="Lucida Sans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: The Fe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43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INTRAUTERINE DEVICES (IUD)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-shaped object placed in the uterus to prevent pregnanc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ust be on period during inser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A Natural childbirth required to use</a:t>
            </a:r>
            <a:br>
              <a:rPr sz="2800"/>
            </a:b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IUD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Extremely effective without using hormones &gt; 97 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ust be in monogamous relationship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228600" y="152280"/>
            <a:ext cx="9372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STERILIZ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rocedure performed on a man or a woman </a:t>
            </a:r>
            <a:r>
              <a:rPr b="1" lang="en-US" sz="3200" spc="-1" strike="noStrike" u="sng">
                <a:solidFill>
                  <a:srgbClr val="fff017"/>
                </a:solidFill>
                <a:uFillTx/>
                <a:latin typeface="Lucida Sans"/>
              </a:rPr>
              <a:t>permanently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 steriliz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male = Tubal Lig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ale = Vasectomy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TUBAL LIG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urgical procedure performed on a woma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llopian tubes are cut, tied, cauterized, prevents eggs from reaching sperm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ilure rates vary by procedure, from 0.8%-3.7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ay experience heavier periods</a:t>
            </a:r>
            <a:r>
              <a:rPr b="0" lang="en-US" sz="2800" spc="-1" strike="noStrike">
                <a:solidFill>
                  <a:srgbClr val="fff017"/>
                </a:solidFill>
                <a:latin typeface="Lucida Sans"/>
              </a:rPr>
              <a:t> 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LAPAROSCOPY-’BAND-AID’ STERILIZ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59" name="Picture 4" descr="_x000b_LAPAROSCOPY  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685800" y="1994040"/>
            <a:ext cx="7315200" cy="4483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523880" y="838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VASECTOMY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pic>
        <p:nvPicPr>
          <p:cNvPr id="162" name="Picture 4" descr="&#9;vasectomy    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2133720" y="1523880"/>
            <a:ext cx="5079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METHODS BASED ON  INFORM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Withdrawa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Natural Family Planning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rtility Awareness Method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Abstinence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1800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WITHDRAWA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Removal of penis from the vagina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befor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ejaculation occur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T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a sufficient method of birth control by itself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Effectiveness rate is 80% (very unpredictable in teens, wide variation)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1 of 5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women practicing withdrawal become pregnant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Very difficult for a male to ‘control’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Natural Family Planning &amp; Fertility Awareness Method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Women take a class on the menstrual cycle to calculate </a:t>
            </a:r>
            <a:r>
              <a:rPr b="1" i="1" lang="en-US" sz="2800" spc="-1" strike="noStrike">
                <a:solidFill>
                  <a:srgbClr val="fff017"/>
                </a:solidFill>
                <a:latin typeface="Lucida Sans"/>
              </a:rPr>
              <a:t>mor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fff017"/>
                </a:solidFill>
                <a:latin typeface="Lucida Sans"/>
              </a:rPr>
              <a:t>fertil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time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Requires special equipment and cannot be self-taught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NFP abstains from sex during the calculated fertile tim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M uses barrier methods during fertile tim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erfect effectiveness rate = 91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ypical effectiveness rate = 75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 100% safe day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irregular periods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Abstinence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Only 100% method of birth control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Abstinence is when partners do not engage in sexual intercourse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ommunication between partners is important for those practicing abstinence to be successfu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Reasons for abstaining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oral or religious valu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ersonal belief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edical reason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Not feeling ready for a emotional, intimate relationship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uture plan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Lucida Sans"/>
              </a:rPr>
              <a:t>Birth Control &amp; Family Planning</a:t>
            </a:r>
            <a:endParaRPr b="1" lang="en-US" sz="5400" spc="-1" strike="noStrike">
              <a:solidFill>
                <a:srgbClr val="fafd00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ypes of Birth Contro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Hormona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Barrier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IUD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Methods based on inform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Permanent steriliz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rmonal Method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Oral Contraceptives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(Birth Control Pill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Injections (Depo-Provera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Implants (Norplant I &amp; II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w does the pill work?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Stops ovula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Thins uterine lining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Thickens cervical mucu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Taking the Pil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Once a day at the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same tim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everyda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for first month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when on antibiotics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for 1 week if you miss a pill or take one lat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he pill offers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 protection from STD’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Depo-Provera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Birth control shot given once every three months to prevent pregnancy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w does the shot work?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Stops ovul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Stops menstrual cycles!!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Thickens cervical mucu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9:24:25Z</dcterms:created>
  <dc:creator>Outreach </dc:creator>
  <dc:description/>
  <cp:keywords/>
  <dc:language>en-US</dc:language>
  <cp:lastModifiedBy>Daly Dominguez</cp:lastModifiedBy>
  <dcterms:modified xsi:type="dcterms:W3CDTF">2016-10-26T19:50:31Z</dcterms:modified>
  <cp:revision>94</cp:revision>
  <dc:subject/>
  <dc:title>PowerPoint Presentation  -  Birth Control Methods</dc:title>
</cp:coreProperties>
</file>